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950-5819-4AC2-8467-48208BE2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67E-E7B6-45B9-95E9-7632C7EB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28DAB-E618-4993-A1D5-CABC846C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10A3C-EB9C-4154-8197-593879D3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6F165-2CF0-4213-9C4E-611C125A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7D2D8-1751-4438-9D96-EFD8C94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32574-8427-4A3C-9628-F1CD1E8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A4DAC-0E4C-4F7A-8D61-BD5F9390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01CC0-C386-4D6C-8CCB-528A3858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51778-39E7-42F6-BECA-6F32B4D3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3F474-C8DE-4856-AEBB-2888B6D8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625B2-7D78-462A-AD36-33BCADA3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B2C-0B73-48B6-81AC-8E763096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A8FB3-3A42-45BC-B4B0-41D11F1B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9378D-702D-41F7-9DD3-39A8717A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B6BF8-571C-4F83-8823-025D2F48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D8F0B-E55E-46C2-8C81-9E08105E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8A377-FC40-4C8F-AED7-4AA70B16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49D90-2721-4D30-A7EC-F4AA8E3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2A8DE-2110-4BB9-BD07-9A2414D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74179-FAD9-47E2-82E1-5D6D8CA6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C7941-2AFD-4B88-BA4D-62CA6549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87CDB-1A20-4EF3-83BF-42B6F34D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7A3-D962-4015-A15B-8E9B0338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C00EF-AB52-4C59-A3D8-2CE71D7F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B32CE-5A73-4484-BAD1-E50BC338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75B08-090E-4F85-8303-4B3C7424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CA69A-F2FC-4E2D-9854-4BE69DBC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72971-F5D1-402A-A2D8-D1B2F47B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1D9CE-F14D-471F-B1E7-3EA947F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59F02-7DEF-4F3D-9010-197B52A6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E39AF-A9D6-4CB9-9624-19719ACC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AF369-8C28-46DE-9FDF-39D5255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8E715-87B5-49CA-8857-57C4B34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4F58-474E-47C5-87E4-11435491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D18D0-A139-40C0-A83A-700B2408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FF96D-819C-4F02-B18E-35BF960C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48745-974D-4D9B-A23A-E8AED355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BB5D0-AC3E-4409-A524-67190F8A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C16F5-D390-45BD-AB38-E468AF5A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EAE6B-D4CB-4916-B24F-A36AFAC6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03237-5D95-425C-B53F-53D747F1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597D0-3BED-4FAA-BD24-1948AE90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41751-AC1A-4832-A3A0-44626DED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EAB79-7B2D-4E0A-8AAE-B17A170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EADF-15C3-447A-B462-F74F0632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5144D-3487-4F2A-BBB3-CBF86E62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4AD7C-9F4B-41CC-A57D-7DEA5AF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D10BE-BF6E-4518-8E6D-29B4207D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6A269-1A02-49BE-B9D0-ED4D09F8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714BC-2D49-4F94-A5BE-B76C3E88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3DA08-755F-4568-AAEB-A90D1861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7A750-6072-4A56-A278-A64B2493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7ABC2-3557-44D1-A216-08DE5735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81BD0-B1C9-4382-A72B-AEF3CE09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27FE1-5428-443F-99BE-08BF828C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169D-B27B-4284-8E09-B5D5F45B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3E3B9-E722-4FCB-9C97-4ADF800E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106AE-0F7F-46BA-ADD9-85F00EA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6FF2E-E1D4-49CF-A3E6-9D1B1A3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E9800-7B17-4317-9215-D876EC8D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C724D-73BC-46E3-9E5E-1461A71A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34148-BB14-4D37-AAB2-BA1E7260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B564B-CE99-4195-AEFA-C26D4AD5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86B39-ABDD-4B10-A551-F9D1D6D9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153C3-6575-41CA-8E78-0E053A37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3043F-A8EA-47E5-BFC4-459E6B9C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44DF-4026-4F1A-A8C4-CFE74E89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97120-5FB4-47B6-B444-CF18D78D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412BB-1565-43A4-96CA-2C3D9C9F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30F13-FF90-4D55-AB2C-1BC8A919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4D05F-362D-4AA0-8D80-1BB6CB8A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903BF-CFC9-4D9D-80DD-45532F63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EE1E6-B0CE-4062-A8A9-B08E26DA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EAB72-B314-49B9-9ED0-2EE1F2E1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53733-8F9F-4877-8841-BA1EB847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4B869-6765-4EF6-A617-C6A88BCF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A2D62-422B-4AF1-9608-8A3E5B75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348F-3FCB-437B-9F88-8740ED72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69D44-89C9-4BDD-8ADF-0DDBCDF2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4B846-181F-4733-A027-6FEE600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33D48-8806-4694-99A4-8C5EC2AE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1A463-A5DA-4092-B2B9-BBA7C0C2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35725-B66C-4DF6-A6A9-872DD70A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7F89B-D61A-456B-8B4C-5CCEB26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04207-234A-4E59-8CC1-D1B76A18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882CF-6C8F-466E-B24C-FA2736B3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68622-3734-4DB3-9C2E-D41459DF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25C4F-B7C8-4F13-98BC-9D676C94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D3E0-DEBE-4093-97AB-E6476B23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C22C4-722F-4020-BFC9-3CCA21BB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500BC-0698-4634-97CA-2252C095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95364-1079-4B59-8B9C-3219371F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A017B-051C-444F-94C3-EE72F0DB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75BD7-8BC4-4C81-A331-DFDF2BE0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4C3E9-6196-46CF-91BE-412C3A0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09AE6C-B7F7-41CE-AD07-CD0BF3B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AD8D0-DFC2-404D-9BA1-45DFB875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6EBBD-9F39-447C-B979-8B689AF6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548031-3D26-4255-AF79-EC8D234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1FF1-10E3-47D9-8ADE-B61225B4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A8D0A-B99F-4FF9-91BE-85D5143D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7CA73-12F0-45C6-ACE0-E440B36D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489E0-BDD7-4F5E-BD3B-E251ABDF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58E5F-8650-4EE0-9A65-9E2F5D15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F6DF0-97D5-4751-A707-413B25D3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466E2-2A53-4CBE-B291-640BEEB4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E4F18-7AD1-44DD-8778-EECA313C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719F9-947D-4B05-A269-E30E402F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BCB3F-FCB3-4C51-B708-A969972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0B063E-8942-49DF-8E41-09B4881E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978-1539-41BF-9F75-F945620C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893C-4432-4451-9D2E-B0CD2D3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4CCBA-B373-4AC1-9D91-C24728A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1296C-44DB-429D-9FE3-EAD6E43A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F4D1E-E3AB-4214-BE36-DE14A32C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F3572-330B-4F62-B4FF-4A90039A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558FD-1F22-4F4B-9DF9-640FD64E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3E9F7-6089-41D3-B205-E9FC1F5A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374E5-D5DD-4101-ABDF-116DC0B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6CDFC9-5B18-434A-98B4-B4EC9057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31787-6966-4FE0-83A9-7A61099E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3866E-9B6B-4F18-B296-52ADA205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0D98-4E05-4A45-83C7-9BD95075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209F2-E731-4C56-9B48-B10C95A9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DF4C8F-654B-4578-9EB6-87D074D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25533-F263-41BD-8987-7C0606B1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F0A50-906A-43C8-84FA-4F975961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2C50F-6C69-4F31-9463-BE9F2044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58C15-6785-47F4-A201-27D3E3F5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DEBB0C-D3A2-442E-AE88-4E2C7679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68C3BF-ECF6-42CA-B661-74CDA248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50400-5621-4E4F-A244-6149F6D8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6CB87-3568-4414-B4A2-3F249F2D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EE85-52CF-460C-88AB-750EC9E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7DE1A-21E4-4594-A247-FD219B77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72B6F-0F79-4FB9-BC70-6B541478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BCE9B-333B-434B-8148-ACFFBDAC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4AC93-7C6B-4812-92CA-952C9787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120D5F-084A-4052-ADC9-1113692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AF205-006B-43E1-97F6-5B9BD8D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AE8C4-C8E8-4557-953C-1055224A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644BC2-9C39-462A-BCFC-2ECF74EB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BF0D5D-795B-44A1-9DD9-D06CFAED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0E07E-CB40-466A-B394-56D384E3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461A-805D-4A7B-89F0-C3696DA8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546B4C-836E-4D45-8707-751E6861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034BF-4C06-406C-A804-E28A143B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29709-E097-4940-BDE4-CB883639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3B29F1-FE9E-4889-850D-C395D867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BD2BC-677E-4F37-A89D-8DFED179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46250-A2D3-4681-A13C-B086BDC8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6566D-0260-4ED5-A647-9B1CD1D7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C3D42E-A546-4216-9D50-41784AE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5F8BE-B109-48AD-AFF5-7F59096E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82482-EC12-494E-B3A6-700DEB12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512A-5437-412B-ABF4-3EC9B470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56446-85B9-455A-9F35-C7FC0C1F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FA905-BDA3-4F2E-B210-EF4E8F33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5C458-960F-4EDC-A9BB-4A10DD31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2A401-0EF9-4BFC-BEEA-69F457C3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57257-CD63-40B8-9BD4-3B2BD691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C3B5AE-6625-40FA-A6BB-6AE7213B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A965E8-CC00-456A-8CF3-BF024151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6567D-C63B-45B0-8740-F77D0C9B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5908BA-44F6-49D4-8F31-0C1DA1D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82ABB-F1A0-468F-9359-65C7AFA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2E2C-7613-46CA-B1CA-52493E8E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B2CA73-6667-4841-AFC0-3281B484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D2A308-80C9-4374-8096-D23B7D78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AC9AF-F98D-42E4-B5B7-3411399A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DC46-FB31-4AAF-AEDE-13098E7D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7F01-B558-4C77-87BC-DA538B7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15AD-6B05-45E0-B121-46493CE5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8740-8902-4814-A927-50D14B85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501-F98D-401F-AE0F-D02011F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FA30-0FF0-456D-A80F-3717C861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B31A-D6AE-45B3-8EFB-B10DFB48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5878-75A0-422A-AC32-C8DBF7B9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C37C-4D42-4A61-8F04-8B7F384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3893B-6CA6-4142-A2D4-C033FE99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3366-DBC0-4BF9-A580-4116ACB7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35B6-A525-4DDA-A2F4-506D5C13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25D6C-5EC2-4F53-9503-89D864F3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2754-E0EC-45F9-BCFE-F86D5527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3E0F-6368-4A74-9EBB-D5E4B21B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3FC-5916-4DFD-B45F-28CCFFD6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AC9B8-B90D-49EC-93D6-5F09707A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EF5C-5A96-4D80-9D45-4764A82D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1AF22-CACD-4E9A-8549-1B87FC7E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ECC3-DEC2-4C38-B88F-AE8FCE11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92F25-8461-43E7-B994-7D46B3A1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BA93-705F-4769-BDEF-569D6A50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3016-5E8A-4DAE-9A3E-8CC8A81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93DE7-E336-4803-B5CE-65F2C5B9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3552-2D33-4718-AA75-C9A29613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B2CCA-3DD3-4B52-9988-BBF47808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E0D-2833-4842-8A96-21B21835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F8DA-D840-4425-8735-61D4C356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272E7-9AF5-447A-B309-C8033305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8AFCD-398E-449F-A85C-A6D15815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9D4A-D991-4C53-8043-8CD9BE5C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34F04-6680-466D-88F8-F047787F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E10A-ECB2-444F-93D6-F3D2BC0C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2BD0E-B7F6-4CE6-82AC-36078E42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6B3D4-9E6B-466D-97EE-DB63008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E1FA-8CA4-429F-B513-CC44FDF7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1CEB9-E764-4984-8CEF-2494659D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11D-694E-4287-9B3C-4EF645C1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4D9A-FA18-4AFA-B9F5-136A0E18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45627-55F4-452E-AEB5-EBC1EE35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EF543-F740-4BA4-9E51-71FA65BE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D6A99-DAB5-4841-BD73-D94609C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9F7A1-3ED2-4857-824A-D0465084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84D5-6288-440B-A40B-824AE1A9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7D380-D03F-4D10-8F63-4AD9956C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67B7-FBE5-4E12-9240-0F9B890C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2FE8A-708F-47E0-8E7F-913CB020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CDBDC-92D6-4DDC-A38F-43F5541C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EB8-8F95-4F7B-9E0D-B502E95C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8D957-C7AF-49C9-8868-BB291C44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1B56C-8FE5-44CD-82B9-97D92D04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91605-6BF8-495E-8990-B3F9741F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9D708-E330-4EE4-95D8-C1E32BB8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63911-8C2E-4C86-9777-9F44F18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A842B-22A6-457A-BA8C-A4FF39A6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F2FE-4D1E-47E8-8702-0BFADEC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76AD3-E52C-4467-AC15-F50AE066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1F11D-3395-4FD9-B764-564A6D2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240AE-7E35-416D-B835-91197A7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7F7-42A8-497F-A750-95AAE770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8DF7C-944E-407A-9D04-73218F1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2E1FF-F11D-4459-A872-7136F0A2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803A0-166C-4F44-B287-EC66E3BF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AB1E1-CCB9-4539-B8AD-B2BDEEE8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9808E-F326-4B2B-8670-EA0B3534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3B91B-34AE-46C7-8239-6261A84D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4478D-E176-4551-9676-5E37D76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8CDE0-CB00-4DDC-A06C-CEE30BFC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E9275-7BF4-48AE-BCD9-78F867E6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DDD62-93C8-48DC-9E6A-27573A60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80F-29B3-4125-A1A9-CC4129A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B2FE0-542C-4688-BB67-5BCD8812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FEF0-4A12-4339-B870-3595B85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BF66C-7730-469F-A4DD-9ADA9735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34FAC-436D-43EA-8B0F-8125B4E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5DD4-26FE-4EBE-B5C2-B3618F7C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4D456-2855-4D34-A0CD-A8782156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C0D75-8CCF-48DE-B6B7-A9A099DD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4D8E0-1510-4FF9-8E91-9DA1C8F2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79108-AE14-4368-91D6-2C9DA510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EA0A5-0AFB-4836-AF66-0E2D2526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099E-2AEF-457D-BC9A-8B215D16B0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636F-C92C-456E-ADE5-917911264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1E41-C0AB-4319-9E19-28AF8AEA6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CB9E-3B8E-4A72-9AA8-45BFAC1999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C90D-51AA-404C-BA67-98572530FB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E5B6-C2EE-4287-AF7B-BBB089ECAE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0490-4DC5-481F-B3EA-2344A9F2F1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60D9-880B-4E57-8A44-E8275AA5DE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0242-B897-4A1E-A924-0C5415888C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A60-7376-41A2-AA7F-A298FA7CB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05D3-5C07-4E0F-960C-3CC8FEA989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90E8-6D5F-41F6-9BC5-6D81D7CDC9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8A77-FB80-4EA7-B0D0-FA9DC571D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AC2D-6543-4C69-977F-4A8B8E76F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AD3D-7F31-4F5E-AA2F-D91D84B313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BD6B-C2A4-48C7-BB9F-A156E8B17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985F-E2EF-43D7-AFB7-39DB3D6B1D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03CA-0CFB-40A0-8D55-DA86B737A0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8041-A606-4B3F-961B-C2F8D52D2F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9784-FEF4-43CF-8269-2B18C5B64B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CBE2-D100-4C0B-8D26-DFFF8159C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AC1D-F436-4005-8559-AF8600DC71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494E-2AB4-47E5-BF1C-A2479EB594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1093-EA33-46AB-9797-09413B228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67DF-1DCC-487D-830A-EA8E40999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B263-7D10-444B-AFCF-1D2434D00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2699-098C-419C-9352-713E5D142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E8D0-2E43-4DD0-B2BD-1F00B68A8B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5058-161A-4E7A-86C9-86140A0F2B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354E-371D-44B0-8C2A-F8DCF74C0C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3DC-DCFD-48BF-AF04-F36F503ECE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B0DF-0A0D-4F11-8069-B6F723C76A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621F-D34D-4812-88E5-7EDB20E15D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6AEB-9C8C-479C-B76B-DC80C45E33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041F-0EDC-4876-95F4-BF7AD3D73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98EC-D4E9-4DF1-9218-197409A7A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6D9F-7036-4CAC-89C6-FD3439F6B2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5AD5-1EA9-4FA2-89A1-08A744ACEB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DA3-A4ED-40B5-9FC3-58009D2F6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51E5-0389-4D01-9DB1-5967FD51F5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57440" y="3124080"/>
            <a:ext cx="4029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60430"/>
          <p:cNvGrpSpPr/>
          <p:nvPr/>
        </p:nvGrpSpPr>
        <p:grpSpPr>
          <a:xfrm>
            <a:off x="0" y="947880"/>
            <a:ext cx="8977320" cy="5086080"/>
            <a:chOff x="0" y="947880"/>
            <a:chExt cx="8977320" cy="5086080"/>
          </a:xfrm>
        </p:grpSpPr>
        <p:pic>
          <p:nvPicPr>
            <p:cNvPr id="923" name="图片 60428" descr=""/>
            <p:cNvPicPr/>
            <p:nvPr/>
          </p:nvPicPr>
          <p:blipFill>
            <a:blip r:embed="rId1"/>
            <a:stretch/>
          </p:blipFill>
          <p:spPr>
            <a:xfrm>
              <a:off x="166680" y="947880"/>
              <a:ext cx="8810640" cy="49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图片 60429" descr=""/>
            <p:cNvPicPr/>
            <p:nvPr/>
          </p:nvPicPr>
          <p:blipFill>
            <a:blip r:embed="rId2"/>
            <a:stretch/>
          </p:blipFill>
          <p:spPr>
            <a:xfrm>
              <a:off x="0" y="5300640"/>
              <a:ext cx="2843280" cy="73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468360" y="2295360"/>
            <a:ext cx="1224000" cy="1420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566720" y="193500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627280" y="2286000"/>
            <a:ext cx="1224000" cy="1420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3699000" y="198900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4716360" y="2286000"/>
            <a:ext cx="1224000" cy="1420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5796000" y="196992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732720" y="2286000"/>
            <a:ext cx="1224000" cy="1420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7885080" y="196056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468360" y="4114800"/>
            <a:ext cx="3024000" cy="301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468360" y="4446720"/>
            <a:ext cx="3024000" cy="3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组合 59412"/>
          <p:cNvGrpSpPr/>
          <p:nvPr/>
        </p:nvGrpSpPr>
        <p:grpSpPr>
          <a:xfrm>
            <a:off x="133200" y="692280"/>
            <a:ext cx="8877600" cy="5241960"/>
            <a:chOff x="133200" y="692280"/>
            <a:chExt cx="8877600" cy="5241960"/>
          </a:xfrm>
        </p:grpSpPr>
        <p:pic>
          <p:nvPicPr>
            <p:cNvPr id="936" name="图片 59410" descr=""/>
            <p:cNvPicPr/>
            <p:nvPr/>
          </p:nvPicPr>
          <p:blipFill>
            <a:blip r:embed="rId1"/>
            <a:stretch/>
          </p:blipFill>
          <p:spPr>
            <a:xfrm>
              <a:off x="133200" y="923760"/>
              <a:ext cx="8877600" cy="50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图片 59411" descr=""/>
            <p:cNvPicPr/>
            <p:nvPr/>
          </p:nvPicPr>
          <p:blipFill>
            <a:blip r:embed="rId2"/>
            <a:stretch/>
          </p:blipFill>
          <p:spPr>
            <a:xfrm>
              <a:off x="6372360" y="692280"/>
              <a:ext cx="2160360" cy="73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826920" y="2570040"/>
            <a:ext cx="2881440" cy="252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826920" y="2871720"/>
            <a:ext cx="2881440" cy="2523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755640" y="3189240"/>
            <a:ext cx="4753080" cy="252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755640" y="3780000"/>
            <a:ext cx="2881440" cy="252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755640" y="4086360"/>
            <a:ext cx="1944720" cy="2523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2843280" y="4076640"/>
            <a:ext cx="2592360" cy="252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755640" y="4394160"/>
            <a:ext cx="2592360" cy="252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684360" y="5003640"/>
            <a:ext cx="3600360" cy="25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611280" y="5300640"/>
            <a:ext cx="3600360" cy="252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611280" y="5608800"/>
            <a:ext cx="604836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8373" descr=""/>
          <p:cNvPicPr/>
          <p:nvPr/>
        </p:nvPicPr>
        <p:blipFill>
          <a:blip r:embed="rId1"/>
          <a:stretch/>
        </p:blipFill>
        <p:spPr>
          <a:xfrm>
            <a:off x="214200" y="1952640"/>
            <a:ext cx="8715600" cy="2952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677960" y="236844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3554280" y="237816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5407200" y="2411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7236000" y="240192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5867280" y="28717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2916360" y="32036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1908000" y="349560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1692360" y="42926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0"/>
          <a:stretch/>
        </p:blipFill>
        <p:spPr>
          <a:xfrm>
            <a:off x="4284720" y="428292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1"/>
          <a:stretch/>
        </p:blipFill>
        <p:spPr>
          <a:xfrm>
            <a:off x="6877080" y="427356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2"/>
          <a:stretch/>
        </p:blipFill>
        <p:spPr>
          <a:xfrm>
            <a:off x="1682640" y="458136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3"/>
          <a:stretch/>
        </p:blipFill>
        <p:spPr>
          <a:xfrm>
            <a:off x="4284720" y="45910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4"/>
          <a:stretch/>
        </p:blipFill>
        <p:spPr>
          <a:xfrm>
            <a:off x="6877080" y="46101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27:1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